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5405-AF6A-458A-B7CF-FB4F62C1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6CF4-DC80-4228-9B4A-D320D790E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8945-DF75-4DE0-8F31-28B6CC65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9273-8615-47E9-A1B5-F0C45E8A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891-AEDE-4180-AA7F-DFCCD1EE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816F-8B29-413B-AAA7-C49E7B99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5CF3-FB0D-43D6-93BE-17AEDF19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E34-0876-42D3-BED4-1715AAC92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C3D-7916-475F-A140-EC92A06E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8B1-744B-4296-9E32-89B06FCD8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F5C-C9B4-4D63-95FB-4110C29F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93C-666D-4F59-B1B8-4F9DD4E7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D60-3066-4E93-A2A9-59BD3278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5B8-8D3B-4280-A5B0-C483EC6B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701C-A773-4C39-AEF7-DFB5BDA2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9962-F49B-4150-8C4C-2B6F7897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EB25-7AEF-43AA-BEFE-7FE621A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DA1E-1B53-4105-928A-66DA2DB8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9A40-441B-4D2F-8CCD-55FE4C6E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CE83-F24C-49B3-B4B4-067B1800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827A-9189-4FDA-8B0B-674D094F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06C-C81B-42A0-B75F-B8EB4A7D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3508-65BC-4B7A-B43B-DE9557D3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F44-5C0C-4A67-8099-A585E7D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977-5632-468E-8823-FA370DE0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1FD-3906-420F-A550-3BFB02EE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FB57-6B65-47B6-9A4F-3ADAB272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409-A8B5-4B02-B6B2-CCD4C464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9B5-21AB-4F67-ADB1-DDE42A93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0D5-24E9-4956-A93D-C4965D4D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646-A410-4CDB-831B-18685ED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063-4E45-42EC-B928-F307F5AB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185-AF4B-46E1-BFA0-2D28CA9E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A3B-C70C-469A-978E-F82F875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E32D-C8F8-4D14-A5E5-00A7F2AEC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4B7-330A-4B34-AB73-E1D5A9905A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Memory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024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STM to the LTM and ba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brain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3809880" y="4038480"/>
            <a:ext cx="158112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hort Term Memo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alled “working memory” because it is what is being currently process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CAN HOLD—what is said in 1.5—2 sec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LASTS—15-20 seconds and then forgot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hort Term Memory continued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unking” helps with memory because it groups information into meaningful units to be better remembe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—phone numbers, social security #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cre 01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2590920" y="4191120"/>
            <a:ext cx="38098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(En)coding 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 the STM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: how we store info to remember it later!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Most people co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honological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coustically), or by the way it SOUND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 can be do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isual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by the way it LOO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maps, paintings, pi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Verdana"/>
              </a:rPr>
              <a:t>Semantically</a:t>
            </a:r>
            <a:r>
              <a:rPr b="0" lang="en-US" sz="2800" spc="-1" strike="noStrike">
                <a:solidFill>
                  <a:srgbClr val="0d0d0d"/>
                </a:solidFill>
                <a:latin typeface="Verdana"/>
              </a:rPr>
              <a:t> – coded by meaning (transform sounds or visual images into recognizable wor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map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7848720" y="2514600"/>
            <a:ext cx="105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treasure map. &#10;fotosearch - search &#10;clipart, illustration, &#10;drawings and vector &#10;eps graphics images"/>
          <p:cNvPicPr/>
          <p:nvPr/>
        </p:nvPicPr>
        <p:blipFill>
          <a:blip r:embed="rId2"/>
          <a:stretch/>
        </p:blipFill>
        <p:spPr>
          <a:xfrm>
            <a:off x="5105520" y="4992840"/>
            <a:ext cx="224784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membering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ote Rehearsa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eating information over and over. Brain will only hold this information for a few minutes </a:t>
            </a:r>
            <a:r>
              <a:rPr b="0" i="1" lang="en-US" sz="2800" spc="-1" strike="noStrike">
                <a:solidFill>
                  <a:srgbClr val="c00000"/>
                </a:solidFill>
                <a:latin typeface="Verdana"/>
              </a:rPr>
              <a:t>(not the best way to study!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aborative Rehearsa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lating new information to something you already know/understand (making links). This sends the info from STM to L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203ea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rain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7238880" y="4952880"/>
            <a:ext cx="11638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getting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y theory—passing of time decreases the strength of the memory, especially if not recalled for a long wh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erence theory—interference from other info causes memories to be mixed up/ pushed asi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—Fall Semester (Bio) vs. Spring Semester (Ch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ng Term Memory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filing cabinets store mem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mantic—stores general facts and info (learned stuff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ic—stores specific information with personal meaning (personal experience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it—info you never intended to remember (random facts, “stupid stuff you know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filing cabinet. &#10;fotosearch - search &#10;clipart, 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7620120" y="3657600"/>
            <a:ext cx="1314360" cy="285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ile folder color. &#10;fotosearch - search &#10;clipart, illustration, &#10;drawings and vector &#10;eps graphics images"/>
          <p:cNvPicPr/>
          <p:nvPr/>
        </p:nvPicPr>
        <p:blipFill>
          <a:blip r:embed="rId2"/>
          <a:stretch/>
        </p:blipFill>
        <p:spPr>
          <a:xfrm>
            <a:off x="228600" y="3429000"/>
            <a:ext cx="18288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(En)coding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 the LTM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encode three way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y mea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member overall meaning but not small detai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—”The Moral of the Story is…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on-verb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ded in non-verbal images—like smells, tastes, sou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—familiar voice on phone, smell of a rose, shape of Florid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bati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word for word memories—mostly very familiar thin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—the Pled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utting it all together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240" y="-72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609480" y="2057400"/>
          <a:ext cx="853452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5345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34:51Z</dcterms:created>
  <dc:creator> </dc:creator>
  <dc:description/>
  <dc:language>en-US</dc:language>
  <cp:lastModifiedBy>John Hampton</cp:lastModifiedBy>
  <dcterms:modified xsi:type="dcterms:W3CDTF">2012-02-23T19:14:42Z</dcterms:modified>
  <cp:revision>24</cp:revision>
  <dc:subject/>
  <dc:title>Memory </dc:title>
</cp:coreProperties>
</file>